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61E-AA21-4F28-B45E-52302536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533-CD6C-4414-A599-56C0A5C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BC4-2E5B-42EC-845D-DE456A56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F21-F968-4557-9D89-3DF9964A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F435-00F5-4FF3-B20F-0D1308CE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C44A-DF41-4A95-8E50-48A56DC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01A-7AFD-46D9-A243-7844636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B8B-8CCB-494D-86AF-B2C460DE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2803-C57A-4494-BF61-56DD439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9BA-7D1C-4EBA-8EBD-E1107E9F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428-5B7E-4926-A7C0-7A7B7F9B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56E-DEE7-487F-B7CB-00F5153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440-0F47-47E7-83BF-469A60F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D9A-FCCA-4057-8F06-9CD3C71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68F-392C-40E5-8068-39DDA23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3210-4498-4677-9E01-AD820F3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86EE-113F-400D-9419-4B7C648B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E56-4976-4672-ADA9-CBB5A11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85A-FB8E-4C92-98F3-3AD8547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847-90B3-4607-9990-7BF1EA1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41A-61B4-4B7C-8950-9CCAAB00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913-9EAD-44D2-A674-4C593AD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810-0867-4E86-A2B2-DAC427CA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6E9-0340-4621-9026-75F804E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B433-4323-430B-AF78-BEF37DE07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82BC-EA2F-4415-98B5-9F2EBDA5A4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3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 Energ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ary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in Re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trons are emitted when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undergoes f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neutrons are then available to trigger fission in other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in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uncontrolled, a violent explosion ca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nciple behind the nuclear bomb, where 1 kg of U can release energy equal to about 20 000 tons of T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Ques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muons the same as electrons, except for their mas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are some particles charged and others neutra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quarks carry fractional char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etermines the masses of fundamental partic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leptons and quarks have a substructu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in Reaction –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882800"/>
            <a:ext cx="8458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reac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ystem designed to mainta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f-sustained chain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produc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K, is defined as the average number of neutrons from each fission event that will cause another fission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value of K from uranium fission is 2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practice, K is less than th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lf-sustained reaction has K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 Valu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=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in reaction is self-sust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&lt;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b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ction dies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&gt;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per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un-away chain reaction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asic Reactor Desig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el elements consist of enriched ura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oderator mater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elps to slow down the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rol ro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bsorb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3280" y="201780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Leakage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(or “leakage”) of neutrons from the co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not available to cause fission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action lost is a function of the ratio of surface area to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reactors have larger percentages l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oo many neutrons are lost, the reactor will not be able to op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Energies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neutrons are more likely to cause fission ev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neutrons released in the fission process have energies of about 2 Me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to sustain the chain reaction, the neutrons must be slowed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erat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rounds the fu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isions with the atoms of the moderator slow the neutrons down as some kinetic energy is transfe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modern reactors use heavy water as the mod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Capture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utrons may be captured by nuclei that do not undergo f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ly, neutrons are captured by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sibility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capture is lower with slow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derator helps minimize the capture of neutrons b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Power Level Control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thod of control is needed to adjust the value of K to nea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K &gt;1, the heat produced in the runaway reaction can melt the re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trol ro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inserted into the core to control the power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rods are made of materials that are very efficient at absorbing neu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dmium is an 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adjusting the number and position of the control rods, various power levels can be maintain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Diagram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154240"/>
            <a:ext cx="77724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cesses of Nuclear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cleus of large mass number splits into two smaller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light nuclei fuse to form a heavier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rge amounts of energy are released in either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Operation Notes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ype of reactor is commonly used in electric power plants in the 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sion events in the reactor core supply heat to the water contained in the prim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mary system is a close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ter is maintained at a high pressure to keep it from bo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 water is pumped through a heat excha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Operation Not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heat is transferred to the water contained in a second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ter is converted into s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eam is used to drive a turbine-generator to create electric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ter in the secondary system is isolated from the water in the prim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events contamination of the secondary water and steam by the radioactive nuclei in the 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Contain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exposure, and its potential health risks, are controlled by three levels of contai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or ves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fuel and radioactive fission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or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as a second containment structure should the reactor vessel rup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ctor facilities are in remote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Loss of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water flow was interrupted, the nuclear reaction could stop immed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re could be enough residual heat to build up and melt the fuel el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lten core could also melt through the containment vessel and into the 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na Syndr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olten core struck ground water, a steam explosion could spread the radioactive material to areas surrounding the power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ctors are built with emergency cooling systems that automatically flood the core if coolant is l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Radioactive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osal of wast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te material contains long-lived, highly radioactive isoto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stored over long periods in ways that protect the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solution is sealing the waste in waterproof containers and burying them in deep salt m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 of fuel and was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idents during transportation could expose the public to harmful levels of ra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artment of Energy requires crash tests and manufacturers must demonstrate that their containers will not rupture during high speed coll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uclear fus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ccurs when two light nuclei combine to form a heavier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ss of the final nucleus is less than the masses of the original nucl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loss of mass is accompanied by a release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sion in the Su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tars generate energy through f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n, along with about 90% of other stars, fuses hydro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ars fuse heavier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onditions must be met before fusion can occur in a 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mperature must be high en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ity of the nuclei must be high enough to ensure a high rate of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ton-Proton Cyc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ton-proton cycle is a series of three nuclear reactions believed to operate in the 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 liberated is primarily in the form of gamma rays, positrons and neutri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uter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may be written a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241960" y="2398680"/>
          <a:ext cx="376560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1960" y="2398680"/>
                    <a:ext cx="376560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releasing fusion reaction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onuclear fusion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reat deal of effort is being directed at developing a sustained and controllable thermonuclear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ermonuclear reactor that can deliver a net power output over a reasonable time interval is not yet a re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vantages of a Fusion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expensive fuel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is the ultimate fuel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deuterium is used as fuel, 0.06 g of it can be extracted from 1 gal of water for about 4 c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atively few radioactive by-products are 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Fis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heavy nucleus splits into two smaller nucl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otal mass of the products is less than the original mass of the heavy nucle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observed in 1939 by Otto Hahn and Fritz Strassman following basic studies by Fer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a Meitner and Otto Frisch soon explained what had happen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iderations for a Fusion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ton-proton cycle is not feasible for a fusion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igh temperature and density required are not suitable for a fusion re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promising reactions involve deuterium (D) and tritium 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36840" y="4770360"/>
          <a:ext cx="660528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4770360"/>
                    <a:ext cx="660528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iderations for a Fusion Reactor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uterium is available in almost unlimited quantities in water and is inexpensive to ex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tium is radioactive and must be produced artifici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ulomb repulsion between two charged nuclei must be overcome before they can f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Requirements for Successful Thermonuclear Reactor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tempera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ed to give nuclei enough energy to overcome Coulomb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se temperatures, the atoms are ionized, forming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ma ion density,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ions pre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ma confinement tim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the interacting ions are maintained at a temperature equal to or greater than that required for the reaction to proceed success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wson’s Criteri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son’s criteria states that a net power output in a fusion reactor is possible under the follow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deuterium-trit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deuterium-deute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sma confinement time is still a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Confin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magnetic confinement device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okam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wo magnetic fields confine the plasma inside the doughn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rong magnetic field is produced in the wi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weak magnetic field is produced in the tor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eld lines are helical, spiral around the plasma, and prevent it from touching the wall of the vacuum cham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343400" y="247644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F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amak Fusion Test Re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e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ion temperature of 510 million degrees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ues were close to Laws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amak at Abington, Eng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T fusions per second wer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urrent Research in 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TX – National Spherical Torus Experi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a spherical plasma with a hole in the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able to confine the plasma with a high press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 – International Thermonuclear Experimental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ternational collaboration involving four major fusion programs is working on building this re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will address remaining technological and scientific issues concerning the feasibility of fusion pow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Methods of Creating Fusion Ev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rtial laser confin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el is put into the form of a small pel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collapsed by ultrahigh power la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rtial electrostatic confin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ly charged particles are rapidly attracted toward an negatively charged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positive particles collide and f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mentary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for “indivisibl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once thought to the elementary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 constitu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n, neutron, and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viewed as elementary because they are very s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covery of New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1937, many new particles were discovered in experiments involving high-energy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istically unstable with short life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300 have been catalog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attern was needed to understand all these new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ssion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sion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by a slow (low energy) 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* is an intermediate, short-live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s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and Y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ssion frag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combinations of X and Y satisfy the requirements of conservation of energy and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57360" y="2971800"/>
          <a:ext cx="71024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2971800"/>
                    <a:ext cx="7102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ists recognize that most particles are made up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s include photons, electrons and a few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model has reduced the array of particles to a manageable f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model has successfully predicted new quark combinations that were subsequently found in many experi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ndament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articles in nature are subject to four fundament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vitation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ong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responsible for the tight binding of the quarks to form neutrons and pr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responsible for the nuclear force binding the neutrons and the protons together in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est of all the fundament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hort-ran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omagnetic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responsible for the binding of atoms and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imes the strength of the strong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long-range force that decreases in strength as the inverse square of the separation between interacting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responsible for instability in certain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responsible for beta dec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ort-range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strength i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that of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now believe the weak and electromagnetic forces are two manifestations of a single force,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ectro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miliar force that holds the planets, stars and galaxie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effect on elementary particles is neg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ng-rang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4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the strength of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est of the four fundament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planation of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ces between particles are often described in terms of the actions of field particles or quan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lectromagnetic force, the photon is the field parti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ctromagnetic forc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diat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carried, by ph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Forces and Mediating Particles </a:t>
            </a:r>
            <a:r>
              <a:rPr b="0" lang="en-US" sz="3000" spc="-1" strike="noStrike">
                <a:solidFill>
                  <a:srgbClr val="333399"/>
                </a:solidFill>
                <a:latin typeface="Verdana"/>
              </a:rPr>
              <a:t>(also see table 30.1)</a:t>
            </a:r>
            <a:endParaRPr b="0" lang="en-US" sz="30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82600" y="2017800"/>
          <a:ext cx="7772400" cy="4236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on (for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ting Field 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u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magne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UniversalMath1 BT"/>
                          <a:ea typeface="UniversalMath1 BT"/>
                        </a:rPr>
                        <a:t>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nd Z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vit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vi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ul Adrien Maurice Dirac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2 – 19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mental in understanding anti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ded in the unification of quantum mechanics and rela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to quantum physics and cosm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bel Prize in 193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10080" y="1855800"/>
            <a:ext cx="31910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ti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very particle, there is an anti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Dirac’s version of quantum mechanics that incorporated special rela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tiparticle has the same mass as the particle, but the opposite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ron (electron’s antiparticle) was discovered by Anderson in 19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en, it has been observed in numerous 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ly every known elementary particle has a distinct anti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ions – the photon and the neutral pi particles are their own anti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Fission of </a:t>
            </a:r>
            <a:r>
              <a:rPr b="0" lang="en-US" sz="4400" spc="-1" strike="noStrike" baseline="30000">
                <a:solidFill>
                  <a:srgbClr val="333399"/>
                </a:solidFill>
                <a:latin typeface="Verdana"/>
              </a:rPr>
              <a:t>235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out 90 different daughter nuclei can be 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neutrons are also produced in each fission ev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ission fragments and the neutrons have a great deal of KE following the ev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57400" y="4332240"/>
          <a:ext cx="640080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332240"/>
                    <a:ext cx="64008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deki Yukaw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07 – 1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ed the existence of me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0" y="1855800"/>
            <a:ext cx="41911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s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from a theory to explain the strong 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ckground 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toms can form a covalent bond by the exchange of 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lectromagnetic interactions, charged particles interact by exchanging a pho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particle was proposed to explain the strong 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a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e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son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posed particle would have a mass about 200 times that of the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orts to establish the existence of the particle were done by studying cosmic rays in the 193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ly discovered multiple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 meson (called p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s no role in the strong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hree varieties of p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of 139.6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of 135.0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ons are very uns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cays into a muon and an antineutrino with a lifetime of about 2.6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ichard Feynman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18 – 198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 on the Manhattan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ion of diagrams to represent particle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y of weak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ormation of quantum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luid hel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er invest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Nobel Prize in 196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591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raphical representation of the interaction between two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ynman diagrams are named for Richard Feynman who developed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 – Two Elect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is the field particle that mediates the inte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transfers energy and momentum from one electron to the o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rtual phot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can never be detected directly because it is absorbed by the second electron very shortly after being emitted by the first electr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Virtual Pho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xistence of the virtual photon would be expected to violate the law of conservation of energ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due to the uncertainty principle and its very short lifetime, the photon’s excess energy is less than the uncertainty in its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irtual photon can exist for short time intervals, such tha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ΔE Δ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 – Proton and Neut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xchange is via the nuclear fo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xistence of the pion is allowed in spite of conservation of energy if this energy is surrendered in a short enough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predicts the rest energy of the pion to be 130 MeV / 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in close agreement with experimental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ssification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broad categ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ified by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– interact through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ptons – interact through 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quence of Events in Fis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nucleus captures a thermal (slow-moving) neutr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apture results in the formation of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*, and the excess energy of this nucleus causes it to undergo violent oscil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* nucleus becomes highly elongated, and the force of repulsion between the protons tends to increase the distor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ucleus splits into two fragments, emitting several neutrons in the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d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 through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ubclas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ay finally into electrons, positrons, neutrinos and ph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 spi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es equal to or greater than a pro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integer spin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ay into end products that include a proton (except for the prot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sed of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pt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 through 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have spin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Leptons appear truly elemen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ub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-like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currently believe only six leptons exist, along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 and electron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 and its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u and its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Law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number of conservation laws are important in the study of elementary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new ones 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Bary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Lept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Baryon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a baryon is created in a reaction or a decay, an antibaryon is also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ary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+1 for 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-1 for anti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0 for all othe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baryon numbers before a reaction or a decay must equal the sum of baryon numbers after the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Lepton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hree conservation laws, one for each variety of lep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w of Conservation of Electron-Lepton Number states that the sum of electron-lepton numbers before a reaction or a decay must equal the sum of the electron-lepton number after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Lepton Number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ing electron-lepton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 for the electron and the electron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1 for the positron and the electron anti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 for all othe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ly, when a process involves muons, muon-lepton number must be conserved and when a process involves tau particles, tau-lepton numbers must b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- and tau-lepton numbers are assigned similarly to electron-lepton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ange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particles discovered in the 1950’s were found to exhibit unusual properties in their production and decay and were given the nam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range partic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culiar features inclu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ways produced in pai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though produced by the strong interaction, they do not decay into particles that interact via the strong interaction, but instead into particles that interact via weak intera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decay much more slowly than particles decaying via strong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angene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lain these unusual properties, a new law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ervation of strangenes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as int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needed a new quantum number,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w of Conservation of Strangeness states that the sum of strangeness numbers before a reaction or a decay must equal the sum of the strangeness numbers after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and electromagnetic interactions obey the law of conservation of strangeness, but the weak interactions do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bble Cham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ashed lines represent neutral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bottom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p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76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rray Gell-Man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9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on theoretical studies of subatomic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010120" y="1905120"/>
            <a:ext cx="3524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quence of Events in Fission –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661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ightfold W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lassification schemes have been proposed to group particles into famil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chemes are based on spin, baryon number, strangenes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ightfold wa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symmetric pattern proposed by Gell-Mann and Ne’em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many symmetrical patterns that can be develop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atterns of the eightfold way have much in common with the periodic 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predicting missing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ightfold Way for Bary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exagonal pattern for the eight sp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 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trangeness vs. charge is plotted on a sloping coordinat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ix of the baryons form a hexagon with the other two particles at its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50292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ightfold Way for Mes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esons with spins of 0 can be plo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ngeness vs. charge on a sloping coordinate system is plo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hexagonal pattern emerg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rticles and their antiparticles are on opposite sides on the perimeter of the hexag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maining three mesons are at the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760" y="1981080"/>
            <a:ext cx="4575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are complex particles with size an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decay into other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different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ks are proposed as the elementary particles that constitute the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ly proposed independently by Gell-Mann and Zwe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–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–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– originally sideways, now st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ociated with each quark is an antiqu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tiquark has opposite charge, baryon number and strang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ks have fractional electrical 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/3 e and –2/3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rdinary matter consists of just u and d qu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 to form?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 –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 hadrons at the time of the original proposal were explained by three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ons consist of one quark and one antiqu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ives them a baryon number of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yons consist of three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aryons consist of three anti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tions to the Original Quark Model – Char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quark was needed to account for some discrepancies between predictions of the model and experimental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m would be conserved in strong and electromagnetic interactions, but not in weak inter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74, a new meson, the J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Ψ was discovered that was shown to be a charm quark and charm antiquark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dditions – Top and Botto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d to the need for a more elaborate quark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need led to the proposal of two new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– top (or trut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– bottom (or beau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ed quantum numbers of topness and bottom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quark was found in a Y meson in 197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quark was found in 1995 at Fermi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mbers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present, physicists believe the “building blocks” of matter are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 quarks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 leptons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3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in a Fission Proce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energy for heavy nuclei is about 7.2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energy for intermediate nuclei is about 8.2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fission fragments have less mass than the nucleons in the original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decrease in mass per nucleon appears as released energy in the fission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ed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st now believe that quarks are permanently confined inside ordinary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solated quarks have been observed experime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planation is a forc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lo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or force increases with increasing d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events the quarks from becoming isolated 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ored 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“charge” occurs in red, blue, or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quarks have colors of antired, antiblue, or antig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obeys the Exclusion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bination of quarks of each color produces white (or colorles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ryons and mesons are always colorl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 Structure of a Mes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reen quark is attracted to an antigreen qu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– antiquark pair forms a me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ing meson is color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84760" y="2209680"/>
            <a:ext cx="525924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 Structure of a Bary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ks of different colors attract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triplet forms a bary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ryon is color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419720" y="2236680"/>
          <a:ext cx="44956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36680"/>
                    <a:ext cx="4495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ntum Chromodynamics (QCD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D gave a new theory of how quarks interact with each other by means of color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ong force between quarks is often called the colo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ong force between quarks is carri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lu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uons are massless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8 gluons, all with color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quark emits or absorbs a gluon, its color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lor Char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colors repel and opposite colors at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colors also attract, but not as strongly as a color and its anti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lor force between color-neutral hadrons is negligible at large sepa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ong color force between the constituent quarks does not exactly cancel at small sep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sidual strong force is the nuclear force that binds the protons and neutrons to form nucle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QCD Explanation of a Neutron-Proton Interaction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quark within the proton and neutron is continually emitting and absorbing virtual glu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reating and annihilating virtual quark-antiquark p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close enough, these virtual gluons and quarks can be exchanged, producing the stro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52880" y="2195640"/>
            <a:ext cx="41911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Inte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an extremely short-range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hort range implies the mediating particles are very mass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responsible for the decay of c, s, b, and t quarks into u and d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responsible for the decay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ptons into elec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Intera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very important because it governs the stability of the basic particles of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not symmetr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symmetrical under mirror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symmetrical under charge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oweak Theo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lectroweak theo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nifies electromagnetic and weak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eory postulates that the weak and electromagnetic interactions have the strength at very high particle energ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ed as two different manifestations of a singl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stimate of the energy rele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total of 240 nucle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ases about 1 MeV per nucle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2 MeV – 7.2 M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tal energy released is about 240 M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very large compared to the amount of energy released in chemical pro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tandard Mod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the electroweak theory and QCD form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andard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ingredients of the standard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trong force, mediated by gluons, holds the quarks together to form composite partic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ptons participate only in electromagnetic and weak intera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ctromagnetic force is mediated by phot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ak force is mediated by W and Z bos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tandard Model – Char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851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ator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es the photon have no mass while the W and Z bosons do have mas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answered by the Standard 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ifference in behavior between low and high energies is calle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ymmetry brea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Higgs bos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as been proposed to account for the m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 colliders are necessary to achieve the energy needed to find the Higgs bo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nd Unification Theory (GUT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ilds on the success of the electroweak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mpted to combine electroweak and strong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version considers leptons and quarks as members of the same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re able to change into each other by exchanging an appropriate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Big Ba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heory of cosmology states that during the first few minutes after the creation of the universe all four interactions were unif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atter was contained in a quark s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ime increased and temperature decreased, the forces broke a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ing as a radiation dominated universe, as the universe cooled it changed to a matter dominated un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Brief History of the Univer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eorge Gam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4 – 19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ng the first to look at the first half hour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ndances of hydrogen and hel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ation should still be present and have an apparent temperature of about 5 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114800" y="1982880"/>
            <a:ext cx="49528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smic Background Radiation (CBR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BR represents the cosmic “glow” left over from the Big Ba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adiation had equal strengths in all dire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ve fits a blackbody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are small irregularities that allowed for the formation of galaxies and other object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88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Connection Between Particle Physics and Cosmology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servations of events that occur when two particles collide in an accelerator are essential to understanding the early moments of cosmic hi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many common goals between the two fiel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Ques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so little antimatter in the Unive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neutrinos have mas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do they contribute to the dark mass in the univers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lanation of why the expansion of the universe is accelerating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 there a kind of antigravity force acting between widely separated galaxi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 it possible to unify electroweak and strong forc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quark and leptons form similar but distinct famil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9:18:40Z</dcterms:created>
  <dc:creator>Marilyn Akins</dc:creator>
  <dc:description/>
  <dc:language>en-US</dc:language>
  <cp:lastModifiedBy>DCPS</cp:lastModifiedBy>
  <dcterms:modified xsi:type="dcterms:W3CDTF">2007-04-19T20:41:29Z</dcterms:modified>
  <cp:revision>31</cp:revision>
  <dc:subject/>
  <dc:title>Chapter 30</dc:title>
</cp:coreProperties>
</file>